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6F8F-A3FC-46E8-91F6-DBCF8670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21B-FF70-47BE-A745-DEB71585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E7F6-D9AD-49CC-A3AE-5CA3A935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C79-084A-4EF0-81D0-116D6A7A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F74-3CF2-4505-B8DF-6CB3F0CF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C29-E6E2-490D-857A-F40DA73B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9FF-F3A3-45E5-B11F-D06E6589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E6E7-D48B-42A7-A558-B36F4F7C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BCC3-19D8-4A37-BFBD-4B58F226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CA9-6BE6-446D-B257-29A201E0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B86-447B-4A2A-9E6D-0FC3676D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557-B27D-49C7-B1FD-8FFC7380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69BE-162B-4CA2-B40E-8A6BA7FEC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295280"/>
            <a:ext cx="86868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66"/>
                </a:solidFill>
                <a:uFillTx/>
                <a:latin typeface="Monotype Corsiva"/>
              </a:rPr>
              <a:t>Topic 8-</a:t>
            </a:r>
            <a:r>
              <a:rPr b="0" lang="en-US" sz="6000" spc="-1" strike="noStrike">
                <a:solidFill>
                  <a:srgbClr val="ff0066"/>
                </a:solidFill>
                <a:latin typeface="Monotype Corsiva"/>
              </a:rPr>
              <a:t> The South &amp; Reconstr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886200"/>
            <a:ext cx="5715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Giovanna Mon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ameron Kir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ndrew Barkhau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How does reconstruction affect the south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emocrats (mostly in south) slowly regained control of southern governments as support for Radical Reconstruction policies decreas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fine: Jim Crow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aws that required African Americans and whites to be separated from each other in every public place that they could come in conta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rpose of Jim Crow law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ecause African Americans were suspected of committing crimes – or because they did not behave as whites thought they shou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 of Jim Crow Law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lacks and whites had to sit in different sections on a tr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lacks and whites had to attend separate schoo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plain the rationale for “Black Cod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y were used to control freed African Americans, men and women. They were also used to exploit African American work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29:07Z</dcterms:created>
  <dc:creator>cfisd</dc:creator>
  <dc:description/>
  <dc:language>en-US</dc:language>
  <cp:lastModifiedBy>cfisd</cp:lastModifiedBy>
  <dcterms:modified xsi:type="dcterms:W3CDTF">2010-05-06T18:07:07Z</dcterms:modified>
  <cp:revision>3</cp:revision>
  <dc:subject/>
  <dc:title>Topic 8- The South &amp; Reconstruction</dc:title>
</cp:coreProperties>
</file>