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48C05-249A-4062-B285-CCA2FB066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5C87A-103C-4E90-9A1C-7DB9316DC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086A3-5202-4043-88BF-147F08F0B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F032E-9549-4338-91BA-47B77FF40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27D55-4FF2-46F8-9562-4BA2791C2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4A8F7-1C48-420F-8830-870CA94EC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CB1C7-A69D-4BDA-BEB0-E6C75CC75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AEB2E-6704-4935-8D55-B9FB17BBA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7DFC1-5F25-44AA-86A3-05BCE25F4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B5156-2035-4483-9035-4AB502ED7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6169C-10C9-4F93-AAC6-F04052587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81C63-2180-45CF-ABD0-DA1C96B3D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380DB-4B81-45F1-81F7-ADDBE2D0BB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2280" y="1295280"/>
            <a:ext cx="8686800" cy="20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ff0066"/>
                </a:solidFill>
                <a:uFillTx/>
                <a:latin typeface="Monotype Corsiva"/>
              </a:rPr>
              <a:t>Topic 8-</a:t>
            </a:r>
            <a:r>
              <a:rPr b="0" lang="en-US" sz="6000" spc="-1" strike="noStrike">
                <a:solidFill>
                  <a:srgbClr val="ff0066"/>
                </a:solidFill>
                <a:latin typeface="Monotype Corsiva"/>
              </a:rPr>
              <a:t> The South &amp; Reconstruc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47920" y="3886200"/>
            <a:ext cx="57150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Created b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Giovanna Monc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Cameron Kir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Andrew Barkhaus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Arial"/>
              </a:rPr>
              <a:t>How does reconstruction affect the south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Democrats (mostly in south) slowly regained control of southern governments as support for Radical Reconstruction policies decrease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Define: Jim Crow Law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Laws that required African Americans and whites to be separated from each other in every public place that they could come in contac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urpose of Jim Crow law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Because African Americans were suspected of committing crimes – or because they did not behave as whites thought they shoul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xample of Jim Crow Law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Blacks and whites had to sit in different sections on a trai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Blacks and whites had to attend separate school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Explain the rationale for “Black Codes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They were used to control freed African Americans, men and women. They were also used to exploit African American worker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5T18:29:07Z</dcterms:created>
  <dc:creator>cfisd</dc:creator>
  <dc:description/>
  <dc:language>en-US</dc:language>
  <cp:lastModifiedBy>cfisd</cp:lastModifiedBy>
  <dcterms:modified xsi:type="dcterms:W3CDTF">2010-05-06T18:07:07Z</dcterms:modified>
  <cp:revision>3</cp:revision>
  <dc:subject/>
  <dc:title>Topic 8- The South &amp; Reconstruction</dc:title>
</cp:coreProperties>
</file>