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846-D10F-479A-8BBB-15B1CEE7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60A-1B6C-4CCE-8258-163E3663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E07-517A-4F43-97CC-CD1705AE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2FE-15CC-42D8-9B04-4FA3E4D5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230-8384-44AC-A1AB-7865A133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14B2-BF8F-42D0-8AE6-EDCC25F4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EC3-930E-471D-A8D9-96810C8B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DAC-7825-4404-811A-CB4F7C4D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87A-4837-442B-98A1-F53A106F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7F6-4F2F-4492-B516-DD8455B1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665-965D-4D54-A9E1-87BA9A9A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D9F-B5F9-4D49-B5A5-2BD9C6D0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8157-5E9F-4E8D-9EC5-954A2339E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295280"/>
            <a:ext cx="86868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Monotype Corsiva"/>
              </a:rPr>
              <a:t>Topic 8-</a:t>
            </a:r>
            <a:r>
              <a:rPr b="0" lang="en-US" sz="6000" spc="-1" strike="noStrike">
                <a:solidFill>
                  <a:srgbClr val="ff0066"/>
                </a:solidFill>
                <a:latin typeface="Monotype Corsiva"/>
              </a:rPr>
              <a:t> The South &amp; Reconstr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886200"/>
            <a:ext cx="5715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Giovanna Mon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ameron Kir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ndrew Barkhau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How does reconstruction affect the sout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emocrats (mostly in south) slowly regained control of southern governments as support for Radical Reconstruction policies decreas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fine: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ws that required African Americans and whites to be separated from each other in every public place that they could come in conta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rpose of Jim Crow law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ecause African Americans were suspected of committing crimes – or because they did not behave as whites thought they shou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of Jim Crow Law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lacks and whites had to sit in different sections on a tr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lacks and whites had to attend separate schoo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plain the rationale for “Black Cod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y were used to control freed African Americans, men and women. They were also used to exploit African American work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9:07Z</dcterms:created>
  <dc:creator>cfisd</dc:creator>
  <dc:description/>
  <dc:language>en-US</dc:language>
  <cp:lastModifiedBy>cfisd</cp:lastModifiedBy>
  <dcterms:modified xsi:type="dcterms:W3CDTF">2010-05-06T18:07:07Z</dcterms:modified>
  <cp:revision>3</cp:revision>
  <dc:subject/>
  <dc:title>Topic 8- The South &amp; Reconstruction</dc:title>
</cp:coreProperties>
</file>