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68E-2DF9-41C4-AB05-AF0EA7F6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EA1-8D52-484D-8474-63B48A1D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61D-0932-4F30-899C-CE2234DA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C3B-4DD5-4019-8331-0CF446EF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A03-A4FC-4B35-862B-B6D2058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0A6-C82A-4751-A053-E00C9941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C25-A45F-4201-9665-5500ED9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7EF-231F-4A56-9C53-DDA42E12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388-452E-47EE-B950-FFBD9884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0F7-3EEE-42A5-85C1-768B68E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908-0510-4F2C-ADA6-007C290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3C2-67C4-47AB-98C1-D9BD4C7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455-47A8-4D6C-9D95-04BC148C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Topic 8-</a:t>
            </a: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 The South &amp; Reconstr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iovanna Mon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meron Ki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ndrew Barkhau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does reconstruction affect the so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mocrats (mostly in south) slowly regained control of southern governments as support for Radical Reconstruction policies decrea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ws that required African Americans and whites to be separated from each other in every public place that they could come in cont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os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cause African Americans were suspected of committing crimes – or because they did not behave as whites thought they shou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sit in different sections on a t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attend separate schoo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ain the rationale for “Black Cod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were used to control freed African Americans, men and women. They were also used to exploit African American work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9:07Z</dcterms:created>
  <dc:creator>cfisd</dc:creator>
  <dc:description/>
  <dc:language>en-US</dc:language>
  <cp:lastModifiedBy>cfisd</cp:lastModifiedBy>
  <dcterms:modified xsi:type="dcterms:W3CDTF">2010-05-06T18:07:07Z</dcterms:modified>
  <cp:revision>3</cp:revision>
  <dc:subject/>
  <dc:title>Topic 8- The South &amp; Reconstruction</dc:title>
</cp:coreProperties>
</file>