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CA6-EF68-495F-BCFA-A356743A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65C2-8B23-49EB-9622-9D0EC986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2B07-64C5-4AD2-AA21-82B32D8B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A2A-D83A-4DA8-B7C8-7934FE40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C047-B4D8-4B9C-9F4D-69364CDB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4A63-5CA0-4294-AE74-974FD2F4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1FBE-F6ED-4798-B3A5-6FFA5BA5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74C-756D-41BA-891C-45074FA1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4387-5D92-4919-B0A4-A9C891F3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F755-E735-4466-BBB8-62E1A15F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EE13-4FE5-4940-B22A-14812F58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4441-9473-4B33-9045-A9BBBB62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87B2-CE52-4BDA-A3AC-7D70C328A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295280"/>
            <a:ext cx="86868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0066"/>
                </a:solidFill>
                <a:uFillTx/>
                <a:latin typeface="Monotype Corsiva"/>
              </a:rPr>
              <a:t>Topic 8-</a:t>
            </a:r>
            <a:r>
              <a:rPr b="0" lang="en-US" sz="6000" spc="-1" strike="noStrike">
                <a:solidFill>
                  <a:srgbClr val="ff0066"/>
                </a:solidFill>
                <a:latin typeface="Monotype Corsiva"/>
              </a:rPr>
              <a:t> The South &amp; Reconstr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886200"/>
            <a:ext cx="5715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Giovanna Mon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Cameron Kir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ndrew Barkhau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How does reconstruction affect the south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emocrats (mostly in south) slowly regained control of southern governments as support for Radical Reconstruction policies decreas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fine: Jim Crow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aws that required African Americans and whites to be separated from each other in every public place that they could come in conta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rpose of Jim Crow law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ecause African Americans were suspected of committing crimes – or because they did not behave as whites thought they shou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 of Jim Crow Law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lacks and whites had to sit in different sections on a tr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lacks and whites had to attend separate schoo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plain the rationale for “Black Code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y were used to control freed African Americans, men and women. They were also used to exploit African American work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29:07Z</dcterms:created>
  <dc:creator>cfisd</dc:creator>
  <dc:description/>
  <dc:language>en-US</dc:language>
  <cp:lastModifiedBy>cfisd</cp:lastModifiedBy>
  <dcterms:modified xsi:type="dcterms:W3CDTF">2010-05-06T18:07:07Z</dcterms:modified>
  <cp:revision>3</cp:revision>
  <dc:subject/>
  <dc:title>Topic 8- The South &amp; Reconstruction</dc:title>
</cp:coreProperties>
</file>