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D35-809C-4B55-8D83-2CAA8FD1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78F-7094-4A15-BF89-20B5A49A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965-49A0-4D81-A3F3-807BEF3C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CE4-C64F-4B26-ACA5-EE3860A8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E0A-1E69-4355-B9F1-21F81552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322-A867-4A10-86E5-B0D3B83D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909-833C-437F-98FC-C4486753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F78-50AF-4678-8891-56EBB3B4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6E8-7AF9-4ED3-9CFE-57A8F349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697-C385-4923-BC7D-210C51BD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CAA-E7E0-46B9-95C2-8EB7C026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498-1470-4353-941C-6B4D697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4B09-C163-4989-94C1-0FF74284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Topic 8-</a:t>
            </a:r>
            <a:r>
              <a:rPr b="0" lang="en-US" sz="6000" spc="-1" strike="noStrike">
                <a:solidFill>
                  <a:srgbClr val="ff0066"/>
                </a:solidFill>
                <a:latin typeface="Monotype Corsiva"/>
              </a:rPr>
              <a:t> The South &amp; Reconstr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iovanna Mon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meron Ki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ndrew Barkhau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How does reconstruction affect the sou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mocrats (mostly in south) slowly regained control of southern governments as support for Radical Reconstruction policies decrea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ws that required African Americans and whites to be separated from each other in every public place that they could come in cont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os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cause African Americans were suspected of committing crimes – or because they did not behave as whites thought they shou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sit in different sections on a t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attend separate schoo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lain the rationale for “Black Cod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were used to control freed African Americans, men and women. They were also used to exploit African American work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9:07Z</dcterms:created>
  <dc:creator>cfisd</dc:creator>
  <dc:description/>
  <dc:language>en-US</dc:language>
  <cp:lastModifiedBy>cfisd</cp:lastModifiedBy>
  <dcterms:modified xsi:type="dcterms:W3CDTF">2010-05-06T18:07:07Z</dcterms:modified>
  <cp:revision>3</cp:revision>
  <dc:subject/>
  <dc:title>Topic 8- The South &amp; Reconstruction</dc:title>
</cp:coreProperties>
</file>