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75704-0895-4393-9D74-57C7BB44D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4DED-E594-4914-B9F2-6B77475DB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FF2CF-CACE-40E2-9B7F-CBBEB0611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D647B-6D2F-4CAA-A9F9-C3631C7FD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4CA56-4901-46E5-B622-1B1FAC510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EB24E-BAC7-4BA5-A95F-1FFAE15A8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5E872-6225-4210-9639-7A8EA214C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18996-3034-4724-B8CF-714D81554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A5C38-AD5A-4EC6-BEB1-A2192F659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8BB95-3E05-42EA-8E7F-1403D5473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2764-E7AE-4E92-BC3F-C8AA14A73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44AD1-634B-4CD6-8F66-A831077DA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E69AC-41AF-4DF6-8230-18DA5A160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CD5D7-9174-4932-930B-8E19126B1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DDDF5-0806-4E8C-A9E2-3395A5CF3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04996-6141-4628-A9E9-F44289F7E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BCBE8-A57C-4230-9A0B-FB46AE6E7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45178-B1D5-41A6-89FE-9FDB1FDBA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DD0FA-4A7D-4F8D-AF68-67580AAE5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79E70-075B-4FE5-B9BB-8C59FBBF8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26C8-29AA-4272-85A6-ABC6A6FE6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93D8E-8482-44DA-BD57-022D19BFC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691C-3FD8-4F73-81A0-20EB7915C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B9383-7105-47F1-8685-F55768C39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BAC8-2D13-4058-B792-D3A9FB68A45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9F95-9D54-4666-A774-906606766BE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Lincoln_and_Johnsond.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calawags and Carpetbagger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e Staud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cole Farnha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chel Bla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Scalawag?</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a name given by former confederates to southern whites who supported republican reconstruction of the south.</a:t>
            </a:r>
            <a:endParaRPr b="0" lang="en-US" sz="2800" spc="-1" strike="noStrike">
              <a:solidFill>
                <a:srgbClr val="ffffff"/>
              </a:solidFill>
              <a:latin typeface="Tahoma"/>
            </a:endParaRPr>
          </a:p>
        </p:txBody>
      </p:sp>
      <p:pic>
        <p:nvPicPr>
          <p:cNvPr id="92" name="" descr="">
            <a:hlinkClick r:id="rId1"/>
          </p:cNvPr>
          <p:cNvPicPr/>
          <p:nvPr/>
        </p:nvPicPr>
        <p:blipFill>
          <a:blip r:embed="rId2"/>
          <a:stretch/>
        </p:blipFill>
        <p:spPr>
          <a:xfrm>
            <a:off x="4952880" y="1523880"/>
            <a:ext cx="364824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Carpetbagger?</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given to a northern whites who moved south after the civil war and supported the republican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1"/>
          <a:stretch/>
        </p:blipFill>
        <p:spPr>
          <a:xfrm>
            <a:off x="838080" y="4419720"/>
            <a:ext cx="2667240" cy="2003400"/>
          </a:xfrm>
          <a:prstGeom prst="rect">
            <a:avLst/>
          </a:prstGeom>
          <a:ln w="0">
            <a:noFill/>
          </a:ln>
        </p:spPr>
      </p:pic>
      <p:pic>
        <p:nvPicPr>
          <p:cNvPr id="96" name="" descr=""/>
          <p:cNvPicPr/>
          <p:nvPr/>
        </p:nvPicPr>
        <p:blipFill>
          <a:blip r:embed="rId2"/>
          <a:stretch/>
        </p:blipFill>
        <p:spPr>
          <a:xfrm>
            <a:off x="4419720" y="22860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scalawags get their name?</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Got their name from former confederates despised them for siding with the republicans.</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Carpetbaggers get their name?</a:t>
            </a:r>
            <a:endParaRPr b="0" lang="en-US" sz="40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ritics called the northerners carpetbaggers because they arrived with all their belongings in a cheep suitcase made of carpet fabric.</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y did the south attracted Carpetbaggers?</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arpetbaggers were former union solders or members of the freedmen’s bureau who liked the south and wanted to settle there. Others were reformers from the North including lawyers, doctors, and teachers wanted to help re shape southern societ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conditions existed in the south?</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Many northern whites who moved to the south after the war also supported the republicans and served as republican leaders during reconstructio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9:41Z</dcterms:created>
  <dc:creator>cfisd</dc:creator>
  <dc:description/>
  <dc:language>en-US</dc:language>
  <cp:lastModifiedBy>cfisd</cp:lastModifiedBy>
  <dcterms:modified xsi:type="dcterms:W3CDTF">2010-05-06T18:34:35Z</dcterms:modified>
  <cp:revision>7</cp:revision>
  <dc:subject/>
  <dc:title>Scalawags and Carpetbaggers</dc:title>
</cp:coreProperties>
</file>