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478-F092-4244-84EE-386C0556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399-58C1-45BB-9BA1-62F3C180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567-443D-4F90-ADB7-FD07CA38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981-73F5-45FB-9DC3-24D1A9BD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124-54A6-4C9C-92CA-FEB51053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C83-7090-4F58-96E7-88964897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687-82B1-458C-99D2-E20A86CE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EEF-DC37-4809-AC96-09BF4880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5BE-9B2F-47A6-B97B-B792930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29F-8D1E-45E5-B41B-D36D18E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379-48A4-4997-BBDD-C38B6B2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042-0079-4725-874E-4F5C6CA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7E4B-248A-4C21-AA13-2DCEC1DE1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of reconstruction is: the pre- Civil War effort to  rebuild the South or Confederat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’s plan was that at least 10% of voters of a South state would take a oath to the Union, after that they could form a new government, and adopt a new constitution that banned slavery from the state forever. ( States could do it if they wanted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’s plan was to get all Confederate states to form a new constitution that would abolish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- the amendment was a problem because not all the states wanted the African Americans to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Republicans- these people thought that Lincoln’s plan was to mild and did not punish the South like it should have, So they decided to make a plan that would deny any seat in congress to people that supported Lincoln’s plan, this made a huge problem in the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30:21Z</dcterms:created>
  <dc:creator>cfisd</dc:creator>
  <dc:description/>
  <dc:language>en-US</dc:language>
  <cp:lastModifiedBy>cfisd</cp:lastModifiedBy>
  <dcterms:modified xsi:type="dcterms:W3CDTF">2010-05-05T18:35:42Z</dcterms:modified>
  <cp:revision>3</cp:revision>
  <dc:subject/>
  <dc:title>Reconstruction</dc:title>
</cp:coreProperties>
</file>