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6B1-72A4-4DE0-96B6-8630A004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01F-3412-45FD-83D8-B5F9499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B30-8DEA-40B1-89CF-701E639E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2CE-6903-481C-B2B1-A6692D04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47E-84EB-4EC3-A90F-4E9548F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0B8-1FBA-4057-B948-0F36FFC1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41D-4568-4794-877E-8FBCC02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EA8-3D27-494D-ABCE-E62EB2D2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473-A4FC-47DE-A7EA-27A19CA1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F88-88E1-4E9D-8122-A2DB030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FE3-6B7D-4631-AB15-69F16C1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543-E279-4648-BDBC-53A6817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645B-D5D2-4647-8D46-7A78D8EE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reconstruction is: the pre- Civil War effort to  rebuild the South or Confederat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plan was that at least 10% of voters of a South state would take a oath to the Union, after that they could form a new government, and adopt a new constitution that banned slavery from the state forever. ( States could do it if they wanted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’s plan was to get all Confederate states to form a new constitution that would abolish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- the amendment was a problem because not all the states wanted the African Americans to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Republicans- these people thought that Lincoln’s plan was to mild and did not punish the South like it should have, So they decided to make a plan that would deny any seat in congress to people that supported Lincoln’s plan, this made a huge problem in the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30:21Z</dcterms:created>
  <dc:creator>cfisd</dc:creator>
  <dc:description/>
  <dc:language>en-US</dc:language>
  <cp:lastModifiedBy>cfisd</cp:lastModifiedBy>
  <dcterms:modified xsi:type="dcterms:W3CDTF">2010-05-05T18:35:42Z</dcterms:modified>
  <cp:revision>3</cp:revision>
  <dc:subject/>
  <dc:title>Reconstruction</dc:title>
</cp:coreProperties>
</file>