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100-4738-4913-BEBE-1580D895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00B-39CF-43F9-8634-5983532A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6AF-4C36-4557-8F72-24E5DDD8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905-EA4D-4027-9E8A-1DEC5B88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663-BCE3-4A09-9AAE-7A39CCE5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A86-DE5A-40B6-BAA3-32088B27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502-CE72-4AD3-8E26-3BDC9043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5F5-A2F1-4C09-815F-871A73E0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0F7-0C81-45A5-B823-FDD61616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DF3-B635-458C-8B7A-9A9BBB9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7DE-CD67-49B2-BFC3-EE470276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1E7-2E17-4AC6-8130-D9FD80C1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5F12-DE43-4198-B5FA-7742DC6D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of reconstruction is: the pre- Civil War effort to  rebuild the South or Confederat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’s plan was that at least 10% of voters of a South state would take a oath to the Union, after that they could form a new government, and adopt a new constitution that banned slavery from the state forever. ( States could do it if they wanted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’s plan was to get all Confederate states to form a new constitution that would abolish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- the amendment was a problem because not all the states wanted the African Americans to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Republicans- these people thought that Lincoln’s plan was to mild and did not punish the South like it should have, So they decided to make a plan that would deny any seat in congress to people that supported Lincoln’s plan, this made a huge problem in the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30:21Z</dcterms:created>
  <dc:creator>cfisd</dc:creator>
  <dc:description/>
  <dc:language>en-US</dc:language>
  <cp:lastModifiedBy>cfisd</cp:lastModifiedBy>
  <dcterms:modified xsi:type="dcterms:W3CDTF">2010-05-05T18:35:42Z</dcterms:modified>
  <cp:revision>3</cp:revision>
  <dc:subject/>
  <dc:title>Reconstruction</dc:title>
</cp:coreProperties>
</file>