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9541-96E8-4DCD-B7E6-C253B5B1C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C4B9-0B63-4FCB-A29F-95024BD2B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2565-8D68-4384-9B05-7974035C9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2DC6-85A4-4CE3-8C8E-8E7DEA633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2F3E-D25E-4F20-9ABD-D6051A6F0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42EA-6611-484F-8635-1C1D7972E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67E3-6A22-488B-8C4E-F2861B579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597E-B2FB-453B-BD96-E49726C9F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0996-5053-4E2C-8910-3EC638977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7803-B0F6-490D-9CF8-7B7D6EDA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28C2-453E-4FBE-9C29-556CD160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D5EE-F133-4D23-84C3-7FAD310C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D52FC-E9CF-4F50-A1B0-8C6563598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n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finition of reconstruction is: the pre- Civil War effort to  rebuild the South or Confederate st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coln’s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coln’s plan was that at least 10% of voters of a South state would take a oath to the Union, after that they could form a new government, and adopt a new constitution that banned slavery from the state forever. ( States could do it if they wanted 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t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son’s plan was to get all Confederate states to form a new constitution that would abolish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mendment- the amendment was a problem because not all the states wanted the African Americans to vo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dical Republicans- these people thought that Lincoln’s plan was to mild and did not punish the South like it should have, So they decided to make a plan that would deny any seat in congress to people that supported Lincoln’s plan, this made a huge problem in the cong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18:30:21Z</dcterms:created>
  <dc:creator>cfisd</dc:creator>
  <dc:description/>
  <dc:language>en-US</dc:language>
  <cp:lastModifiedBy>cfisd</cp:lastModifiedBy>
  <dcterms:modified xsi:type="dcterms:W3CDTF">2010-05-05T18:35:42Z</dcterms:modified>
  <cp:revision>3</cp:revision>
  <dc:subject/>
  <dc:title>Reconstruction</dc:title>
</cp:coreProperties>
</file>