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B179D-FD49-4371-ACF0-882472303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FEC1D-C9E8-450F-AB2F-FBE8F1DD8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1A58A-A3D1-4A9D-B702-891177CF1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152F6-FCCD-4076-9360-CBD486CCD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0E8A0-3881-452E-87DE-106D19BB6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6EA07-7504-4DE6-8428-BB0EEED72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AAE58-AECC-4EE6-B0DD-F37B7663E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C8BE5-D16D-4759-ABAE-A32BD1AAA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81591-122B-4C64-BAA6-8260DC496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7458A-3F81-400A-88C1-6C7B1326D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A1705-97DB-46B2-B467-15911545B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E87E9-BFFD-4238-A8EB-D11B3ADA9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34C74-1407-4C25-ACFB-E7D39AB07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72B4B-3CA7-428F-82E1-70EC8F8D0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09F21-6A2C-4C8B-82B0-A051CEA32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1CFD3-E012-4101-9EC2-8B785B2BA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F15FF-7868-4A23-BC7D-C41D0650D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32FC32-7133-4DC5-803E-620CB06FF2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9CAB9-2CF6-471E-ADC9-DE9A5972F5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7D4476-0E05-4356-B959-728254C1C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568E59-6680-4173-9578-CB47CF7D3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6C448-CDE2-4C82-9C36-A0BEC23DED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21F24-21F1-4CE7-9C07-D2691D178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A74934-1DE5-41FE-AE12-2097FFF574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93D2D-A644-4836-A2F6-6D22B2685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79192-384D-4B4F-8EFC-4290FCD22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0DFA1-DC34-49D1-BF39-6FFCC22E1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113732-8A0D-43A6-A7DA-BBF5D03382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5A8686-7642-46F1-B5A5-5285B97218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07C846-E933-41C9-95F2-0A0DCFC913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7087A9-3AFB-4569-9057-72EA5420D5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C70BF-740E-45E6-A1F5-E9D56E4DC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483989-61F6-41A2-BAF3-E6360020D4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2FE61-6CF3-4C86-ABA6-4F8BD92F4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45742A-F509-44F7-950E-C0565F8499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CEAED0-5CF0-40FC-A201-5E77E8AD5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7DF66-B5EA-480C-9979-0AE76ED9F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EDABB-6360-478D-BC47-783FEEE2B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0F4574-4A95-4EF1-8E47-2DD4CF01D4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A05DE-A664-40DE-B9EF-DDE4FCC3F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CF0BE7-6D49-4581-A378-C3DFFEF4B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3F04D3-C485-4CAF-BAA7-23EBF9F67E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3AC904-31B0-4290-A9D2-EA03C8FDE1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B3CB18-10A2-4E8F-B800-A78FCE2F4D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56787-8781-4440-8955-8D07A2009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B12628-0EA0-42FA-ABF8-3CE0728947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536FEE-2F93-43F3-8A1E-5D2B84F5D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542797-96DE-4FB5-9DD4-7FA43D9408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42D3D0-0BE5-4D6F-A5FA-9DC79FF955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815247-6984-4255-86AC-743C7D4BFB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73D4F-0FAD-4FB2-BDBF-3AB81FE3A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8AE85-8F64-4ADA-97C0-81FEE32D3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2F286F-0096-47FB-BA5E-73A02FC12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B6C025-45F7-40A2-A112-1AD0DCD2F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566A6F-A54A-4176-A1A8-495B78FAEF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D83F4-F1F2-4E9A-B02E-273F56CAD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D43CE2-5541-44F1-8955-16046DCE04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0114EB-4113-46BB-95FB-3992CE4324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083291-F0A6-476F-8FEC-4D3533C28F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C2FC07-12D8-4918-8C49-7C9B1D607E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B46900-142F-4B90-82E7-E4B24114C4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8D3CCC-5562-4311-A2A8-5CC6213E88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5216C2-9186-40C3-B6A8-D081FB9C22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B50219-49B0-4BB6-A92A-C67032906C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FBF36-C70F-4753-992C-AEBFADB7D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7456C2-A285-4F21-8ED5-AA43E3585B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3E683-8EC2-4129-BD2A-D01A55B63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BB33EB-44FD-4DCD-8C2C-F1F77A9776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A16F75-CEB4-409D-B6BC-80D19A6042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C5EB8A-57D4-482D-A785-E8BF889079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DA0204-13E4-4A07-88A0-4E4C0FE707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54206E-AB81-4D99-B429-54CE45E660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7853C-DCAE-49C1-AA95-A67805B92B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A57DC1-631B-4CE2-BC49-2BB0BE56BE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864B9F-D9A1-4710-B0B9-8C236552F5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EEE0F4-2E36-4E72-BC98-139B237F4E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30EAE-29C0-4EA9-A433-BE04F5EC9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C64FF-9D53-4A4C-9FC5-08532F866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AA9A3E-06B1-4259-80DB-CCADB7E09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2D599E-AD82-4753-8AA1-960B257B7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8E409D-B7AB-4764-AD29-15C6558E09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9D422F-0F18-4062-8C40-70332103A5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24BFF9-29CD-4BB0-B09C-8B4E95FEAF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682F2-B3E9-4AD1-B018-5493E0F91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1F91-802A-4495-AC41-90D4D9F26D4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637A-0853-4D1F-9ECF-0CDDA896818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1E4F-412C-44D9-850E-6595E95C39A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FB8E-5E5C-4378-9E05-02A53438943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D1AE-2E0F-47B3-89AD-CBF0854077D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48D9-4112-46C9-86C8-75221887568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9D6E-8249-4474-B8A3-4A7D601A475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edman’s Bureau, Black Codes and Override </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295280" y="3962520"/>
            <a:ext cx="6400800" cy="17524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By: Stephanie Sebo and Hector Larios</a:t>
            </a:r>
            <a:endParaRPr b="0" lang="en-US" sz="2600" spc="-1" strike="noStrike">
              <a:solidFill>
                <a:srgbClr val="000000"/>
              </a:solidFill>
              <a:latin typeface="Gill Sans MT"/>
            </a:endParaRPr>
          </a:p>
        </p:txBody>
      </p:sp>
      <p:pic>
        <p:nvPicPr>
          <p:cNvPr id="320" name="Picture 5" descr="http://www.latinamericanstudies.org/slavery/freedmans-bureau.jpg"/>
          <p:cNvPicPr/>
          <p:nvPr/>
        </p:nvPicPr>
        <p:blipFill>
          <a:blip r:embed="rId2"/>
          <a:stretch/>
        </p:blipFill>
        <p:spPr>
          <a:xfrm>
            <a:off x="5562720" y="4375080"/>
            <a:ext cx="297180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urpose of Freedman’s Bureau</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eedman’s Bureau helped ex-slaves make the transition into freedom after the Civil Wa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Bureau also distributed food, clothing and medical services which helped lower death rates of African American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ducation programs were started to improve reading and writing</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struction</a:t>
            </a:r>
            <a:endParaRPr b="0" lang="en-US" sz="4300" spc="-1" strike="noStrike">
              <a:solidFill>
                <a:srgbClr val="572314"/>
              </a:solidFill>
              <a:latin typeface="Gill Sans MT"/>
            </a:endParaRPr>
          </a:p>
        </p:txBody>
      </p:sp>
      <p:sp>
        <p:nvSpPr>
          <p:cNvPr id="324" name=""/>
          <p:cNvSpPr txBox="1"/>
          <p:nvPr/>
        </p:nvSpPr>
        <p:spPr>
          <a:xfrm>
            <a:off x="1143000" y="1295280"/>
            <a:ext cx="7499520" cy="51055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 big part of the southern reconstruction was helping former slaves adjust to their new free live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bureau's work, with reconstruction, consisted chiefly of four kinds of activity—relief work for both blacks and whites in war-stricken areas, regulation of black labor under the new conditions, administration of justice in cases concerning the black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ermination of the Bureau</a:t>
            </a:r>
            <a:endParaRPr b="0" lang="en-US" sz="4300" spc="-1" strike="noStrike">
              <a:solidFill>
                <a:srgbClr val="572314"/>
              </a:solidFill>
              <a:latin typeface="Gill Sans MT"/>
            </a:endParaRPr>
          </a:p>
        </p:txBody>
      </p:sp>
      <p:sp>
        <p:nvSpPr>
          <p:cNvPr id="326" name=""/>
          <p:cNvSpPr txBox="1"/>
          <p:nvPr/>
        </p:nvSpPr>
        <p:spPr>
          <a:xfrm>
            <a:off x="1434960" y="1447920"/>
            <a:ext cx="7709040" cy="54100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1872, Freedman’s Bureau was terminated by Ulysses S. Grant. Originally the Bureau was only supposed to be running for one year. However, Congress overrides President Johnson’s veto and kept the organization going for nearly seven years, which upset the South. The veto was the beginning of the President's long and unsuccessful fight with the radical Republican Congress over Reconstruc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ack Code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outh hated that African Americans had the same rights as them,  which caused them to write the Black codes. These codes were passed by President Andrew Johnson, limiting blacks to vote, sit on juries, and own land, Whites needed laborers and blacks needed jobs which caused them to participate in sharecropping. </a:t>
            </a:r>
            <a:endParaRPr b="0" lang="en-US" sz="32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harecropping-African Americans work long hours for share of crops.</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329" name="Picture 5" descr="http://www.alamo.edu/pac/faculty/pmyers/hist1302/sharecroppers.jpg"/>
          <p:cNvPicPr/>
          <p:nvPr/>
        </p:nvPicPr>
        <p:blipFill>
          <a:blip r:embed="rId2"/>
          <a:stretch/>
        </p:blipFill>
        <p:spPr>
          <a:xfrm>
            <a:off x="7391520" y="5029200"/>
            <a:ext cx="1600200" cy="16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ack Codes </a:t>
            </a:r>
            <a:endParaRPr b="0" lang="en-US" sz="4300" spc="-1" strike="noStrike">
              <a:solidFill>
                <a:srgbClr val="572314"/>
              </a:solidFill>
              <a:latin typeface="Gill Sans MT"/>
            </a:endParaRPr>
          </a:p>
        </p:txBody>
      </p:sp>
      <p:sp>
        <p:nvSpPr>
          <p:cNvPr id="331" name=""/>
          <p:cNvSpPr txBox="1"/>
          <p:nvPr/>
        </p:nvSpPr>
        <p:spPr>
          <a:xfrm>
            <a:off x="1447560" y="1371240"/>
            <a:ext cx="74991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400" spc="-1" strike="noStrike">
                <a:solidFill>
                  <a:srgbClr val="000000"/>
                </a:solidFill>
                <a:latin typeface="Gill Sans MT"/>
              </a:rPr>
              <a:t>In many states, if unemployed, African Americans faced the potential of being arrested and charged with vagrancy. Freedman’s Bureau kept fighting to abolish the codes. By1866, Black Codes were suspended by Federal officials who deemed that the codes were too harsh and decided that blacks should be subject to the same penalties and regulations as whit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9:39Z</dcterms:created>
  <dc:creator>cfisd</dc:creator>
  <dc:description/>
  <dc:language>en-US</dc:language>
  <cp:lastModifiedBy>cfisd</cp:lastModifiedBy>
  <dcterms:modified xsi:type="dcterms:W3CDTF">2010-05-07T18:04:14Z</dcterms:modified>
  <cp:revision>21</cp:revision>
  <dc:subject/>
  <dc:title>Slide 1</dc:title>
</cp:coreProperties>
</file>