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FD046A-E34C-4DF0-8C2E-15ADC2B248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2AF556-6370-4FF3-A581-759C800885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2E9543-7555-43B9-8A96-6649FD9B64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3547D8-1E8F-4071-853E-42AACB1654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83EB8A-DEFB-40F6-B874-65C033482E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2A64F6-955F-4B48-B32B-A8E59E6E0B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CF9BCD-C390-4C52-A706-08D76B420B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F6559D-F031-4E15-9212-8A1D5D99BB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AF2D60-861B-44B5-A2CF-D51D70466D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834367-107D-4945-984B-84D8839E06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1CA153-00BC-48D2-9030-FFFF679A5D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55414D-FF4C-4BE1-A877-97F77C01B2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BBC215-FE80-4AD0-9C6F-CF0DEFEF82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C33F3C-FF23-4BD0-BAEE-022FB1837E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13E14D-282E-4D7C-ADFA-5B525F6269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D04172-2524-46A8-98A8-D7B9E09ECC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8E72F9-ED4C-4C12-976A-7C24C4D845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C19D749-8AB6-4639-8478-02D61C9ED94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68D24B-7E39-429E-AD6B-8C2448EA27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5D02C6-3FCB-4C4F-8A5E-8C3737C89C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F2751D-E718-4A07-AA77-2DE9DBA82C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4E7626-57F0-4913-A0A0-F26DEF87DA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B73E23-9CB0-4754-BEF2-5CF2129C5C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B69874-022F-49C5-976E-3D94B07AC0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E94D58-B5A2-4D3C-AEE4-D17964E8C6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D670BF-ECA2-4F55-9B1A-93C84C47AD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1FC488-F44C-4225-8018-D615FEB965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589F65-60EE-447F-8C37-0574C32660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E7561C6-877D-49B8-9753-37E2C4EAC01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DF9D9D6-731D-4E7A-AB37-9C3A00927FE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6B354BF-87B9-46E4-9182-620F1DABC86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3EC58E-EF31-4EEE-AE14-C197CBE7D0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44C871-D0FE-499F-BBC7-38ECDC7D45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EBFCD9-416F-4D1E-802E-2B29A802A9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6D7550-B414-470B-84F3-8C64E4B39E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001F6F3-3F7D-452A-9E08-579DD2CB86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C86B6D-D4E9-4DD5-8833-B872C86B3B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C13964-4CA8-4CA8-83B8-2D5B4A35DA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CB5906-2499-496E-B0E5-C690D8BE75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BE6337-7299-4B23-AC29-AB60ED377D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F8B473-7C91-43B1-A586-3AEE2C05F0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AB499AB-626F-4E2B-845D-EB00AF40613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FFFDB9D-E174-4E83-8A4C-0A41E508BB0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6893263-0270-4FA7-96FC-B963E850B66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8DA6DF-6E5B-4149-BF79-DA1BE3D00A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93F526B-9E8F-4C10-A345-A89E8A596E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B5A150-8401-4356-9A62-BE180A07E1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A14727-1516-4CFE-A7AB-659BD813EB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0F6D9F-4A0A-48C7-9851-2C03F74CBA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9168FF-6FA2-46EF-97EF-9A2765E00C8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40C467-AF82-4727-9DA6-A804779758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064C35-62DA-4E0C-BF3C-5D8F993B22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AE07EB-A357-45D2-B808-F648F72900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8F1EEB-959F-46A1-B43F-F1AD398B24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B4F5A81-FCAE-485D-BC82-93A896FA2B1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C4D8DF-0145-4040-8842-C860AACCAD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8CFB880-8348-4158-AFCC-9640D1B994B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8CC007A-1F27-42F8-BE2A-2B278C4959E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BFC192C-D6D9-4074-BFE4-803932D56F6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ED20990-72A7-4FE3-A50C-FFAFC445CE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06DC96B-8235-40FA-8013-795EBBFDD46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B419956-7234-42A7-8018-85F9294795C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13F7DD0-8524-4A1C-9FF1-A01D033864F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DABAD0-E1AD-4B25-B6F0-05E4B73115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4A5697-DD57-4E61-9B09-F04B162922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639B49-8CCD-436C-8F49-1603A037BF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803E3A-1511-415B-9534-58993D262D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ABB3E56-9F5C-40B0-A46F-3E18A117133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B91AF3A-8A9C-4F8A-A2E6-C07263DD600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F0001CD-6557-4633-BCDF-C77E6D45D9D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3DC1C74-7AB1-4E8A-85EC-8FE01AA4B31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C20DE7E-A45C-4C86-A579-A1C730D8631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6E83BCE-A3C5-42AE-9C32-B92C5CB8975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DAC1BE0-8CCF-467B-8E3C-024D2C3232F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21CF35C-7D28-476F-9897-313C77ECE6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53AC0DF-B5F2-4B08-B254-8F45E5D5ECE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D37E56-F619-4850-B405-498CBAFE6D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8C092-A4C0-4BFC-891B-42CFB614DA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4668B9-CC5A-4A68-B3EE-07E8725F14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3F066D-B599-4552-B112-C7585DAA86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33C081A-DC61-4402-ADF6-4335EF0B24E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D979BA5-5190-4A7B-AA88-C07A035C480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DCEDDDF-569D-450B-8F63-F76C2E3B6F9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95D56-560C-46B0-BD86-953109BAD4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65240" y="1036800"/>
            <a:ext cx="1170000" cy="1170000"/>
            <a:chOff x="165240" y="1036800"/>
            <a:chExt cx="1170000" cy="1170000"/>
          </a:xfrm>
        </p:grpSpPr>
        <p:pic>
          <p:nvPicPr>
            <p:cNvPr id="3" name="Donut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B18CE-C833-4B2F-A133-3B3A49848879}"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Donut 10"/>
          <p:cNvGrpSpPr/>
          <p:nvPr/>
        </p:nvGrpSpPr>
        <p:grpSpPr>
          <a:xfrm>
            <a:off x="165240" y="1036800"/>
            <a:ext cx="1170000" cy="1170000"/>
            <a:chOff x="165240" y="1036800"/>
            <a:chExt cx="1170000" cy="1170000"/>
          </a:xfrm>
        </p:grpSpPr>
        <p:pic>
          <p:nvPicPr>
            <p:cNvPr id="51" name="Donut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Oval 12"/>
          <p:cNvGrpSpPr/>
          <p:nvPr/>
        </p:nvGrpSpPr>
        <p:grpSpPr>
          <a:xfrm>
            <a:off x="914400" y="1407960"/>
            <a:ext cx="231840" cy="225720"/>
            <a:chOff x="914400" y="1407960"/>
            <a:chExt cx="231840" cy="225720"/>
          </a:xfrm>
        </p:grpSpPr>
        <p:pic>
          <p:nvPicPr>
            <p:cNvPr id="56" name="Oval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691CC-D0CE-4C4C-AC3A-F4FAC513AEC7}"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Oval 15"/>
          <p:cNvGrpSpPr/>
          <p:nvPr/>
        </p:nvGrpSpPr>
        <p:grpSpPr>
          <a:xfrm>
            <a:off x="2163600" y="2809800"/>
            <a:ext cx="231840" cy="225360"/>
            <a:chOff x="2163600" y="2809800"/>
            <a:chExt cx="231840" cy="225360"/>
          </a:xfrm>
        </p:grpSpPr>
        <p:pic>
          <p:nvPicPr>
            <p:cNvPr id="103" name="Oval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957D0-4833-4B14-9D31-5252B82F5522}"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927B2-A765-4E55-A32F-87D594A25346}"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F9BAD-5FFF-42BF-9D17-6B27EC2FE95A}"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DCEEC-C996-474D-83B2-3C893FF4C0E6}"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ctangle 12"/>
          <p:cNvGrpSpPr/>
          <p:nvPr/>
        </p:nvGrpSpPr>
        <p:grpSpPr>
          <a:xfrm>
            <a:off x="646200" y="969840"/>
            <a:ext cx="4803840" cy="4802400"/>
            <a:chOff x="646200" y="969840"/>
            <a:chExt cx="4803840" cy="4802400"/>
          </a:xfrm>
        </p:grpSpPr>
        <p:pic>
          <p:nvPicPr>
            <p:cNvPr id="273" name="Rectangle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5B40E-B2BE-4658-96B0-9BC71B7BCC56}"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1752480"/>
            <a:ext cx="777240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Freedman’s Bureau, Black Codes and Override </a:t>
            </a:r>
            <a:endParaRPr b="0" lang="en-US" sz="4300" spc="-1" strike="noStrike">
              <a:solidFill>
                <a:srgbClr val="572314"/>
              </a:solidFill>
              <a:latin typeface="Gill Sans MT"/>
            </a:endParaRPr>
          </a:p>
        </p:txBody>
      </p:sp>
      <p:sp>
        <p:nvSpPr>
          <p:cNvPr id="319" name="PlaceHolder 2"/>
          <p:cNvSpPr>
            <a:spLocks noGrp="1"/>
          </p:cNvSpPr>
          <p:nvPr>
            <p:ph type="subTitle"/>
          </p:nvPr>
        </p:nvSpPr>
        <p:spPr>
          <a:xfrm>
            <a:off x="1295280" y="3962520"/>
            <a:ext cx="6400800" cy="175248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Gill Sans MT"/>
              </a:rPr>
              <a:t>By: Stephanie Sebo and Hector Larios</a:t>
            </a:r>
            <a:endParaRPr b="0" lang="en-US" sz="2600" spc="-1" strike="noStrike">
              <a:solidFill>
                <a:srgbClr val="000000"/>
              </a:solidFill>
              <a:latin typeface="Gill Sans MT"/>
            </a:endParaRPr>
          </a:p>
        </p:txBody>
      </p:sp>
      <p:pic>
        <p:nvPicPr>
          <p:cNvPr id="320" name="Picture 5" descr="http://www.latinamericanstudies.org/slavery/freedmans-bureau.jpg"/>
          <p:cNvPicPr/>
          <p:nvPr/>
        </p:nvPicPr>
        <p:blipFill>
          <a:blip r:embed="rId2"/>
          <a:stretch/>
        </p:blipFill>
        <p:spPr>
          <a:xfrm>
            <a:off x="5562720" y="4375080"/>
            <a:ext cx="2971800" cy="2344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urpose of Freedman’s Bureau</a:t>
            </a:r>
            <a:endParaRPr b="0" lang="en-US" sz="4300" spc="-1" strike="noStrike">
              <a:solidFill>
                <a:srgbClr val="572314"/>
              </a:solidFill>
              <a:latin typeface="Gill Sans MT"/>
            </a:endParaRPr>
          </a:p>
        </p:txBody>
      </p:sp>
      <p:sp>
        <p:nvSpPr>
          <p:cNvPr id="32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reedman’s Bureau helped ex-slaves make the transition into freedom after the Civil War</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e Bureau also distributed food, clothing and medical services which helped lower death rates of African Americans</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Education programs were started to improve reading and writing</a:t>
            </a:r>
            <a:endParaRPr b="0"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Reconstruction</a:t>
            </a:r>
            <a:endParaRPr b="0" lang="en-US" sz="4300" spc="-1" strike="noStrike">
              <a:solidFill>
                <a:srgbClr val="572314"/>
              </a:solidFill>
              <a:latin typeface="Gill Sans MT"/>
            </a:endParaRPr>
          </a:p>
        </p:txBody>
      </p:sp>
      <p:sp>
        <p:nvSpPr>
          <p:cNvPr id="324" name=""/>
          <p:cNvSpPr txBox="1"/>
          <p:nvPr/>
        </p:nvSpPr>
        <p:spPr>
          <a:xfrm>
            <a:off x="1143000" y="1295280"/>
            <a:ext cx="7499520" cy="5105520"/>
          </a:xfrm>
          <a:prstGeom prst="rect">
            <a:avLst/>
          </a:prstGeom>
          <a:noFill/>
          <a:ln w="0">
            <a:noFill/>
          </a:ln>
        </p:spPr>
        <p:txBody>
          <a:bodyPr anchor="t">
            <a:normAutofit fontScale="95000"/>
          </a:bodyPr>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A big part of the southern reconstruction was helping former slaves adjust to their new free lives.</a:t>
            </a:r>
            <a:endParaRPr b="0" lang="en-US" sz="32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e bureau's work, with reconstruction, consisted chiefly of four kinds of activity—relief work for both blacks and whites in war-stricken areas, regulation of black labor under the new conditions, administration of justice in cases concerning the blacks</a:t>
            </a:r>
            <a:endParaRPr b="0" lang="en-US" sz="32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ermination of the Bureau</a:t>
            </a:r>
            <a:endParaRPr b="0" lang="en-US" sz="4300" spc="-1" strike="noStrike">
              <a:solidFill>
                <a:srgbClr val="572314"/>
              </a:solidFill>
              <a:latin typeface="Gill Sans MT"/>
            </a:endParaRPr>
          </a:p>
        </p:txBody>
      </p:sp>
      <p:sp>
        <p:nvSpPr>
          <p:cNvPr id="326" name=""/>
          <p:cNvSpPr txBox="1"/>
          <p:nvPr/>
        </p:nvSpPr>
        <p:spPr>
          <a:xfrm>
            <a:off x="1434960" y="1447920"/>
            <a:ext cx="7709040" cy="5410080"/>
          </a:xfrm>
          <a:prstGeom prst="rect">
            <a:avLst/>
          </a:prstGeom>
          <a:noFill/>
          <a:ln w="0">
            <a:noFill/>
          </a:ln>
        </p:spPr>
        <p:txBody>
          <a:bodyPr anchor="t">
            <a:normAutofit fontScale="92000"/>
          </a:bodyPr>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n 1872, Freedman’s Bureau was terminated by Ulysses S. Grant. Originally the Bureau was only supposed to be running for one year. However, Congress overrides President Johnson’s veto and kept the organization going for nearly seven years, which upset the South. The veto was the beginning of the President's long and unsuccessful fight with the radical Republican Congress over Reconstruction.</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Black Codes</a:t>
            </a:r>
            <a:endParaRPr b="0" lang="en-US" sz="4300" spc="-1" strike="noStrike">
              <a:solidFill>
                <a:srgbClr val="572314"/>
              </a:solidFill>
              <a:latin typeface="Gill Sans MT"/>
            </a:endParaRPr>
          </a:p>
        </p:txBody>
      </p:sp>
      <p:sp>
        <p:nvSpPr>
          <p:cNvPr id="328" name=""/>
          <p:cNvSpPr txBox="1"/>
          <p:nvPr/>
        </p:nvSpPr>
        <p:spPr>
          <a:xfrm>
            <a:off x="1434960" y="1447560"/>
            <a:ext cx="7499520" cy="4800600"/>
          </a:xfrm>
          <a:prstGeom prst="rect">
            <a:avLst/>
          </a:prstGeom>
          <a:noFill/>
          <a:ln w="0">
            <a:noFill/>
          </a:ln>
        </p:spPr>
        <p:txBody>
          <a:bodyPr anchor="t">
            <a:normAutofit fontScale="97000"/>
          </a:bodyPr>
          <a:p>
            <a:pPr marL="353880" indent="-273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outh hated that African Americans had the same rights as them,  which caused them to write the Black codes. These codes were passed by President Andrew Johnson, limiting blacks to vote, sit on juries, and own land, Whites needed laborers and blacks needed jobs which caused them to participate in sharecropping. </a:t>
            </a:r>
            <a:endParaRPr b="0" lang="en-US" sz="3200" spc="-1" strike="noStrike">
              <a:solidFill>
                <a:srgbClr val="000000"/>
              </a:solidFill>
              <a:latin typeface="Gill Sans MT"/>
            </a:endParaRPr>
          </a:p>
          <a:p>
            <a:pPr marL="353880" indent="-273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Sharecropping-African Americans work long hours for share of crops.</a:t>
            </a:r>
            <a:endParaRPr b="0" lang="en-US" sz="1600" spc="-1" strike="noStrike">
              <a:solidFill>
                <a:srgbClr val="000000"/>
              </a:solidFill>
              <a:latin typeface="Gill Sans MT"/>
            </a:endParaRPr>
          </a:p>
          <a:p>
            <a:pPr marL="353880" indent="-273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pic>
        <p:nvPicPr>
          <p:cNvPr id="329" name="Picture 5" descr="http://www.alamo.edu/pac/faculty/pmyers/hist1302/sharecroppers.jpg"/>
          <p:cNvPicPr/>
          <p:nvPr/>
        </p:nvPicPr>
        <p:blipFill>
          <a:blip r:embed="rId2"/>
          <a:stretch/>
        </p:blipFill>
        <p:spPr>
          <a:xfrm>
            <a:off x="7391520" y="5029200"/>
            <a:ext cx="1600200" cy="1611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Black Codes </a:t>
            </a:r>
            <a:endParaRPr b="0" lang="en-US" sz="4300" spc="-1" strike="noStrike">
              <a:solidFill>
                <a:srgbClr val="572314"/>
              </a:solidFill>
              <a:latin typeface="Gill Sans MT"/>
            </a:endParaRPr>
          </a:p>
        </p:txBody>
      </p:sp>
      <p:sp>
        <p:nvSpPr>
          <p:cNvPr id="331" name=""/>
          <p:cNvSpPr txBox="1"/>
          <p:nvPr/>
        </p:nvSpPr>
        <p:spPr>
          <a:xfrm>
            <a:off x="1447560" y="1371240"/>
            <a:ext cx="749916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2400" spc="-1" strike="noStrike">
                <a:solidFill>
                  <a:srgbClr val="000000"/>
                </a:solidFill>
                <a:latin typeface="Gill Sans MT"/>
              </a:rPr>
              <a:t>In many states, if unemployed, African Americans faced the potential of being arrested and charged with vagrancy. Freedman’s Bureau kept fighting to abolish the codes. By1866, Black Codes were suspended by Federal officials who deemed that the codes were too harsh and decided that blacks should be subject to the same penalties and regulations as whites.</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5T18:19:39Z</dcterms:created>
  <dc:creator>cfisd</dc:creator>
  <dc:description/>
  <dc:language>en-US</dc:language>
  <cp:lastModifiedBy>cfisd</cp:lastModifiedBy>
  <dcterms:modified xsi:type="dcterms:W3CDTF">2010-05-07T18:04:14Z</dcterms:modified>
  <cp:revision>21</cp:revision>
  <dc:subject/>
  <dc:title>Slide 1</dc:title>
</cp:coreProperties>
</file>