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E0F-F564-4F1A-B7DC-102F8DBF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38E4-891F-473B-A576-A16B4199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1BAD-7302-4D7A-A5C2-A0E98182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521-4C67-404D-B150-5ACA3180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EB5F-3B8E-405B-883E-1B79C248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AF3E-093F-48F5-B31D-8D56E8C9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3A7-8193-4353-99AA-CFC77AD6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0C4F-1521-4B42-962F-CCF5DC4F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2699-3728-4F9E-A77D-614651F4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9D40-B9B1-497C-9A46-F9A7F222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E37-E4B8-452A-8D59-ACEB1F4F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0534-0926-4464-BA8F-D8F9C396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181B-EB83-41F5-A13A-4BD2E2863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romise of 187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ant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de to end reconstruction but failed because the south decided to do things their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esident didn’t want the federal government to be involved in racial debates or help southern African Americ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overnment didn’t aid the southern states and withdrew all the northern troops from the region only if the southern democrats promised to maintain African American r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8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mocrats elected Samuel Til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blicans elected Rutherford B. Hay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uel Tilden was expected to win by 250,000 votes but Florida, Louisiana, South Carolina, and Oregon (20 electoral votes) were debating. 4 months after the commission reviewed they decided to make Hayes the winner. Two days later he was inaugurated into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ion- a group of seven republicans, seven democrats, and one independent to review the election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21:26Z</dcterms:created>
  <dc:creator>cfisd</dc:creator>
  <dc:description/>
  <dc:language>en-US</dc:language>
  <cp:lastModifiedBy>cfisd</cp:lastModifiedBy>
  <dcterms:modified xsi:type="dcterms:W3CDTF">2010-05-06T18:32:36Z</dcterms:modified>
  <cp:revision>2</cp:revision>
  <dc:subject/>
  <dc:title>Compromise of 1877</dc:title>
</cp:coreProperties>
</file>