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EA3-7094-49DE-A78C-D4CC7347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DA5-E17B-427E-8881-8260596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EAF-1767-4D6B-B912-BA9A3115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2C3-421C-48D0-A606-2F0D5926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69F-6FF2-442C-91B3-2FF07E9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A56-F3E3-4AD4-B0DB-31E6FB9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97B-E695-442A-8291-EA34B9E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296-D2F9-4F0A-B105-D8385EEE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BD5-A69D-4E7A-89B7-041E61C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C88-E290-4D8E-9899-8D3A99F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AC7-93D9-4029-8A17-4EB39DB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6AB-8CAF-484A-9AA4-D85D16A2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3563-51B6-4131-A75B-D5B9A381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omise of 18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ant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to end reconstruction but failed because the south decided to do things thei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ident didn’t want the federal government to be involved in racial debates or help southern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 didn’t aid the southern states and withdrew all the northern troops from the region only if the southern democrats promised to maintain African Americ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mocrats elected Samuel Til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elected Rutherford B. Ha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Tilden was expected to win by 250,000 votes but Florida, Louisiana, South Carolina, and Oregon (20 electoral votes) were debating. 4 months after the commission reviewed they decided to make Hayes the winner. Two days later he was inaugurated into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- a group of seven republicans, seven democrats, and one independent to review the elec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21:26Z</dcterms:created>
  <dc:creator>cfisd</dc:creator>
  <dc:description/>
  <dc:language>en-US</dc:language>
  <cp:lastModifiedBy>cfisd</cp:lastModifiedBy>
  <dcterms:modified xsi:type="dcterms:W3CDTF">2010-05-06T18:32:36Z</dcterms:modified>
  <cp:revision>2</cp:revision>
  <dc:subject/>
  <dc:title>Compromise of 1877</dc:title>
</cp:coreProperties>
</file>