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737-1D31-4551-88FD-F5E499F1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FDA-1C16-49C6-9C58-2D851D85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5DE-0CDE-4F47-9DAE-81E98028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E41-970F-4C29-8C49-08446418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669-F11D-4AAE-8330-001C16C2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D91-3ED5-41B8-80D3-E82020AD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835-EC63-4155-A3DD-00C95597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0E8-FE07-4D45-AC18-0E5822B7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AEB-24B9-4834-AB63-8173A1DA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F49-FBE9-4004-A1FB-8A8332D9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A2F-C3D9-498A-BD20-804E6C2F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073-1D71-40D6-A79B-73F9EFD4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E7BA-1EBE-4135-8019-E2CD6465F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omise of 18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ant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to end reconstruction but failed because the south decided to do things their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sident didn’t want the federal government to be involved in racial debates or help southern African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vernment didn’t aid the southern states and withdrew all the northern troops from the region only if the southern democrats promised to maintain African American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mocrats elected Samuel Til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elected Rutherford B. Ha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uel Tilden was expected to win by 250,000 votes but Florida, Louisiana, South Carolina, and Oregon (20 electoral votes) were debating. 4 months after the commission reviewed they decided to make Hayes the winner. Two days later he was inaugurated into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- a group of seven republicans, seven democrats, and one independent to review the elec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21:26Z</dcterms:created>
  <dc:creator>cfisd</dc:creator>
  <dc:description/>
  <dc:language>en-US</dc:language>
  <cp:lastModifiedBy>cfisd</cp:lastModifiedBy>
  <dcterms:modified xsi:type="dcterms:W3CDTF">2010-05-06T18:32:36Z</dcterms:modified>
  <cp:revision>2</cp:revision>
  <dc:subject/>
  <dc:title>Compromise of 1877</dc:title>
</cp:coreProperties>
</file>