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27E-7F3E-47F6-B042-A4233EC9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C75-49CC-4AF6-BBE8-4FB1789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5F4-ABEC-48F3-929E-0502AF07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27E-929D-4EEA-AFCE-F593298D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24D-202D-4F37-840C-6761C04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81A-8C08-4908-81A7-ABAC6AA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B78-E378-4FC5-A13B-28B24CD8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7BB-EACB-49B6-B197-C31728BC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579-CEAF-4DDF-9483-EDB977EF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47E-D988-4654-A7EE-B689AE9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65B-2500-4581-A3ED-DFB7C47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181-A85B-470C-A238-08529E4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283F-D648-4AD2-9320-ECBF99CA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 of 18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nt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to end reconstruction but failed because the south decided to do things thei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ident didn’t want the federal government to be involved in racial debates or help southern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 didn’t aid the southern states and withdrew all the northern troops from the region only if the southern democrats promised to maintain African Americ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ocrats elected Samuel Til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elected Rutherford B. Ha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Tilden was expected to win by 250,000 votes but Florida, Louisiana, South Carolina, and Oregon (20 electoral votes) were debating. 4 months after the commission reviewed they decided to make Hayes the winner. Two days later he was inaugurated into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- a group of seven republicans, seven democrats, and one independent to review the elec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21:26Z</dcterms:created>
  <dc:creator>cfisd</dc:creator>
  <dc:description/>
  <dc:language>en-US</dc:language>
  <cp:lastModifiedBy>cfisd</cp:lastModifiedBy>
  <dcterms:modified xsi:type="dcterms:W3CDTF">2010-05-06T18:32:36Z</dcterms:modified>
  <cp:revision>2</cp:revision>
  <dc:subject/>
  <dc:title>Compromise of 1877</dc:title>
</cp:coreProperties>
</file>