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EE2E-A569-4DC8-916A-6A8E83D5D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0EFA-A4FB-41E9-888A-E5871B8E5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3765-AEC4-4CCA-945D-2C16C3FE2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81AA-A728-4FAF-BFAF-CAF37E2DC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ACAB-8673-4AA1-ACCC-E3F608C6D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D9A5-D587-4358-80B9-743BBCD63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28DD-869F-4D77-A809-A0CF6042D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35EA-C2BF-43E4-9B35-D8FD84027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B88F-10F4-4919-859C-6B6DE26B9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32F0-C723-4DBF-82B2-7E44FD25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6CD3-2FA1-4E17-8392-674C7E46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0253-3F94-47D8-B624-99A06BB5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59C99-BF71-4C5B-A537-C3D684091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3491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romise of 187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ant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3491" r="0" b="0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de to end reconstruction but failed because the south decided to do things their 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resident didn’t want the federal government to be involved in racial debates or help southern African Americ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government didn’t aid the southern states and withdrew all the northern troops from the region only if the southern democrats promised to maintain African American righ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3491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ion of 187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3491" r="0" b="0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mocrats elected Samuel Tild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ublicans elected Rutherford B. Hay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uel Tilden was expected to win by 250,000 votes but Florida, Louisiana, South Carolina, and Oregon (20 electoral votes) were debating. 4 months after the commission reviewed they decided to make Hayes the winner. Two days later he was inaugurated into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3491" r="0" b="0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ission- a group of seven republicans, seven democrats, and one independent to review the election resul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18:21:26Z</dcterms:created>
  <dc:creator>cfisd</dc:creator>
  <dc:description/>
  <dc:language>en-US</dc:language>
  <cp:lastModifiedBy>cfisd</cp:lastModifiedBy>
  <dcterms:modified xsi:type="dcterms:W3CDTF">2010-05-06T18:32:36Z</dcterms:modified>
  <cp:revision>2</cp:revision>
  <dc:subject/>
  <dc:title>Compromise of 1877</dc:title>
</cp:coreProperties>
</file>